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FC8-F532-4C54-AEB2-601E599B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D36-9B52-4DCE-A4F4-8D377CA1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86C-3355-4B18-B8FE-22F6A83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2AD-2E1D-4236-8B43-CBAF23F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E32-D663-407D-9C1F-B6F6B8B7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C2E-DF42-415C-B1FA-FCCDEADC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EBA-600C-412B-BC1B-34E9EB8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15C-A2E1-4324-9BCE-3BFFFFD9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754-1800-41C4-BD6A-219060C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2C0-0B54-44DC-B63D-A5009507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B1B-0B7B-4FB9-94FD-0DDC32A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C07-0C51-4C3B-B7AA-03B0CB1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F9B-7EEA-4CE2-B0C3-DFEFE93C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E16-4C5D-4625-9861-56C0B97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6250-81A7-4BC0-8476-473A0B9F97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и располож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000000"/>
                </a:solidFill>
                <a:latin typeface="Calibri"/>
              </a:rPr>
              <a:t>ЕТИПОПАТОГЕНЕЗ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Calibri"/>
              </a:rPr>
              <a:t>Неуробиолошке студије обухватају четири главна по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а истражив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CS" sz="1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071720" y="1905120"/>
            <a:ext cx="395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</a:rPr>
              <a:t>НЕУРОБИ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19280" y="328464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трансми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Неурои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можданих структура и протока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лошких 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ендокриних 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Calibri"/>
              </a:rPr>
              <a:t>ПОРЕМЕЋАЈ НЕУРОТРАНСМИС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8366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Моноаминска хипот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Депресиј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резултат дефицита норадреналина и серотонина у одређеним синапсама у мозг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Scan0122"/>
          <p:cNvPicPr/>
          <p:nvPr/>
        </p:nvPicPr>
        <p:blipFill>
          <a:blip r:embed="rId1"/>
          <a:stretch/>
        </p:blipFill>
        <p:spPr>
          <a:xfrm>
            <a:off x="1042920" y="1916280"/>
            <a:ext cx="7315200" cy="3162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1430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ву хипотезу потврђује класичним рад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Јулијуса Aксeлрода (добио Нобелову награду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показао да антидепресиви (нпр. имипрамин) повећавају концентрацију норадреналина у синапсамa инхибицијо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узим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2680" y="479160"/>
            <a:ext cx="77644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НЕУРОФИЗИОЛОШК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218960"/>
            <a:ext cx="470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EEG запис пацијенат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а депресијо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м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 спороталасног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па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 скраћ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REM латенц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роду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REM-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оремећаји спа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упоредо с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убјективним дож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јим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депресивних пацијена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28" descr="melancholy2"/>
          <p:cNvPicPr/>
          <p:nvPr/>
        </p:nvPicPr>
        <p:blipFill>
          <a:blip r:embed="rId1"/>
          <a:stretch/>
        </p:blipFill>
        <p:spPr>
          <a:xfrm>
            <a:off x="5148360" y="1219320"/>
            <a:ext cx="3690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ПОРЕМЕЋАЈИ НЕУРОЕНДОКРИНИХ ФУНК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2060280"/>
            <a:ext cx="863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Новија истражи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борелиу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999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ан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лле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2001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у депрес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кортикотропних рилизинг хормон (CRH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овећано лучи из хипоталаму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иректно утиче на HPA-осу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тала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туитар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ренокортик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оса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виши  нивои кортизола у крви и у 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0-70% пацијената са великом депресијом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оказује супресију кортизола после датог дексаметазона (DST-тест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003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Calibri"/>
              </a:rPr>
              <a:t>ПСИХОЛОШКЕ ТЕОР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8920" y="148428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сихоаналитичари (Freud, Abraham и др.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пациј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стали фиксирани за оралну фазу психосексуалног развоја, када се амбивалентни однос према објекту остварује инкорпорац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Бихејвиори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симпто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реакција на губитак поткре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недепресивног пона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огнитивист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Bec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код депресивних поремећаја примар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оремећај миш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док су афективни и други психопатолошки поремећаји секундарни и резултат су поремећене мисао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х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гзистенциј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и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пацијенти су озб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но затајили негде на путу индивидуалног сазр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 ово за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плаћају пред соб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трахом и осећајем кривице, односно депрес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f497d"/>
                </a:solidFill>
                <a:latin typeface="Times New Roman"/>
              </a:rPr>
              <a:t>Е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СОЦИОКУЛТУРНИ И ПСИХОСОЦИЈАЛ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ЧИНИО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3640" y="1844280"/>
            <a:ext cx="510516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пен повезаност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сихосоцијалних фактора са појавом депресивних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спитив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тресогени ефекат рата, елементарне катастрофе, акултурациони стрес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хов значај за настанак депрес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учак: поменути фактори им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декланширајући ефека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у настај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у депресивних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219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f497d"/>
                </a:solidFill>
                <a:latin typeface="Times New Roman"/>
              </a:rPr>
              <a:t>Е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2"/>
          <p:cNvPicPr/>
          <p:nvPr/>
        </p:nvPicPr>
        <p:blipFill>
          <a:blip r:embed="rId1"/>
          <a:stretch/>
        </p:blipFill>
        <p:spPr>
          <a:xfrm>
            <a:off x="5943600" y="1765440"/>
            <a:ext cx="234936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1800" y="-360"/>
            <a:ext cx="70074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КЛИНИЧКЕ КАРАКТЕРИСТИКЕ ДЕПРЕС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314172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к 97% пацијената жали се на см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ње енергије и зам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80% пацијената - поремећај сна, посебно на рано јута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 буђ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90% пацијената - симптоми анксиозности у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ључујућ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нападе панике, алкохолни абузус, соматске жал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50% пацијената описује днвене варијације симпт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60% пацијената - когнитивна оштећ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: поремећај концентрације, заборавност (“депресивна псеудодеменција”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увеличавају лоше и минимизирају добро расположење- ч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ница је о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ј клиничар мора да води рач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opy of depression3"/>
          <p:cNvPicPr/>
          <p:nvPr/>
        </p:nvPicPr>
        <p:blipFill>
          <a:blip r:embed="rId1"/>
          <a:stretch/>
        </p:blipFill>
        <p:spPr>
          <a:xfrm>
            <a:off x="7010280" y="838080"/>
            <a:ext cx="19494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24000" y="1197000"/>
            <a:ext cx="6762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пресивно располо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које је отпорно на утицаје из околине и губитак интереса или задо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ства у свим или готово свим активностим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су најважнији симптоми депрес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/3  пацијената са епизодом велике депресије размиш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 о суицид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10-15% и покуша суиц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себни облици 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пресија са симптомима меланхо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зонск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скиран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Сличан концепт раније је био познат под називима “мала-минор депресија”, субдепресија, неуротична депрес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Хронично депресивно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 које може да траје месецима са периодима од неколико дана или не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 без симпт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ипична је флуктуација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 али у већини времена пацијенти се жале на умор, лоше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без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Клиничка слика дистимије добрим делом је идентична клинчкој слици у рекурентном депресивном поремећају и депресивној епизоди биполарног поремећаја, само што су симптоми 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 уо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ви и блажи, а ток је хронич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ТОК И ПРОГН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Нелечена епизода велике депресије траје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6-1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месеци, а већина лечених епизода су просечног тра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е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ако поремећај прогредира пацијенти имају тенденцију за чешћим епизодама које дуже тра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Током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двадесетогодиш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г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периода пацијенти просечно имају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5-6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епизода боле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10% пацијената са иницијалном дијагнозом униполарне депресије има маничну епизоду 6-10 година после прве депресивне епизод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ако се број епизода повећава, време измеђ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их се скраћује,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а тежина сваке епизоде је већ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melancholy3"/>
          <p:cNvPicPr/>
          <p:nvPr/>
        </p:nvPicPr>
        <p:blipFill>
          <a:blip r:embed="rId1"/>
          <a:stretch/>
        </p:blipFill>
        <p:spPr>
          <a:xfrm>
            <a:off x="5862600" y="1523880"/>
            <a:ext cx="3205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располож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Група психијатриских поремећа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моције, нарочито располож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е 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централни психопатолошки феном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Остали симптоми се групишу око овог основног поремећ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еђашњи назив: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афективни поремећај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99600"/>
            <a:ext cx="8510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371600"/>
            <a:ext cx="5612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бро психофармаколошко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вође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е је од фундаменталног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значаја за терапију депресивних  поремећа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 фармакотерапију целовит приступ у леч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у пацијената са депресијом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подразумева и психотерапиј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 новије време најчешће се при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уј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ихејвиор и когнитивна психотерап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depression3"/>
          <p:cNvPicPr/>
          <p:nvPr/>
        </p:nvPicPr>
        <p:blipFill>
          <a:blip r:embed="rId1"/>
          <a:stretch/>
        </p:blipFill>
        <p:spPr>
          <a:xfrm>
            <a:off x="5867280" y="1371600"/>
            <a:ext cx="2971800" cy="2593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79280" y="4292640"/>
            <a:ext cx="8780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ездестих година прошлог века антидепресиви  улазе у клиничку примену, а до данас је синтетизован  велики број фармаколошких активних супстанци које имају антидепресивно деј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70% пацијената са депресију реагује пов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но на терапију антидепреси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685440"/>
            <a:ext cx="7572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naslov"/>
          <p:cNvPicPr/>
          <p:nvPr/>
        </p:nvPicPr>
        <p:blipFill>
          <a:blip r:embed="rId1"/>
          <a:stretch/>
        </p:blipFill>
        <p:spPr>
          <a:xfrm>
            <a:off x="1000080" y="1571760"/>
            <a:ext cx="755820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opy of T1"/>
          <p:cNvPicPr/>
          <p:nvPr/>
        </p:nvPicPr>
        <p:blipFill>
          <a:blip r:embed="rId2"/>
          <a:stretch/>
        </p:blipFill>
        <p:spPr>
          <a:xfrm>
            <a:off x="1000080" y="2286000"/>
            <a:ext cx="755820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68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naslov"/>
          <p:cNvPicPr/>
          <p:nvPr/>
        </p:nvPicPr>
        <p:blipFill>
          <a:blip r:embed="rId1"/>
          <a:stretch/>
        </p:blipFill>
        <p:spPr>
          <a:xfrm>
            <a:off x="1071720" y="1671480"/>
            <a:ext cx="75578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2"/>
          <p:cNvPicPr/>
          <p:nvPr/>
        </p:nvPicPr>
        <p:blipFill>
          <a:blip r:embed="rId2"/>
          <a:stretch/>
        </p:blipFill>
        <p:spPr>
          <a:xfrm>
            <a:off x="1071720" y="2357280"/>
            <a:ext cx="7557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714240" y="68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naslov"/>
          <p:cNvPicPr/>
          <p:nvPr/>
        </p:nvPicPr>
        <p:blipFill>
          <a:blip r:embed="rId1"/>
          <a:stretch/>
        </p:blipFill>
        <p:spPr>
          <a:xfrm>
            <a:off x="928800" y="1671480"/>
            <a:ext cx="755784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T3"/>
          <p:cNvPicPr/>
          <p:nvPr/>
        </p:nvPicPr>
        <p:blipFill>
          <a:blip r:embed="rId2"/>
          <a:stretch/>
        </p:blipFill>
        <p:spPr>
          <a:xfrm>
            <a:off x="928800" y="2357280"/>
            <a:ext cx="755784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1357200"/>
            <a:ext cx="8173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Биполарни</a:t>
            </a: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расположе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31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PSYCHOSIS AFFECTIVA,</a:t>
            </a: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 TYPUS BIPOL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40" y="13572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.0 Psychosis affectiva bipolaris, episodum hypomanic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1 Psychosis affectiva bipolaris, episodum manicum non psychot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2 Psychosis affectiva bipolaris, episodum manicum psychot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3 Psychosis affectiva bipolaris, episodum deprresivum, gradus levi sive mode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4 Psychosis affectiva bipolaris, episodum deprresivum, non psychoticum, gradus maj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 5 Psychosis affectiva bipolaris, episodum deprresivum, psychoticum, gradus maj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6 Psychosis affectiva bipolaris, episodum mix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755640" y="1989000"/>
            <a:ext cx="748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у се маничне и депресив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алтерни тип, циркуларни тип, double forme тип, интермитентна манија, интермитентна депресиј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минира оштећ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емо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з којег проистичу оштећ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осталих психичких фун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ендоге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ктор је веома наглаш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9600"/>
            <a:ext cx="7889760" cy="106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826920" y="1628640"/>
            <a:ext cx="79218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Генетик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д 60-80% болесника постоји хердитарна предиспози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Преморбидна структур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циклотимна структура личности, екстровертност, социјалабил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Конституциј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 пикничка конститу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Биохемијске теорије настанка биполарног поремећај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улога норадреналина, серототина, допам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јновија сазн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улога митохондрија, 30% неурона са појачаним 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м сигн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омозо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6, 8, 12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hr-HR" sz="25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ЕТИОПАТОГЕНЕ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826920" y="1844640"/>
            <a:ext cx="784872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ЕМОЦИЈЕ: повиш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 распол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(хипертимиј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, еуфорија, преко одуше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и егзалтације до степена екстазе, 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ћа је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трансформација 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 и бесу.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МИ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поремећај по форми и по садржају, убрзани мисаони ток, бујице идеја, “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ug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aru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”, разликује се од шизофреног, поремећај по садржају није правило, благе експанзивне сумануте иде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ПА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појачана вигилност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осла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тенацит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hr-HR" sz="25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и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826920" y="1557360"/>
            <a:ext cx="79218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ГОНИ: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е виталне функције су појачане и убрзане, појачан нагон за исхраном (услед претеране пок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сти обич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губе на теж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, појачан сексуални нагон (непријатни и неукусни у својој сексуалности), бесумучно тро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 новца, коц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пуни планова и акција, ни једну од започетих ра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не довршавају до кр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ПАМЋ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ИНТЕЛИГЕНЦИЈА: халуцинације ретке, памћ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 и интелиг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ису оштећ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9600"/>
            <a:ext cx="7889760" cy="106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Поремећаји располож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пизодични, јаки по интезите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Рекурентни депресивни поремећаји (мајор депре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Биполарни поремећаји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Хронични, слаби по интезите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Циклоти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611280" y="1700280"/>
            <a:ext cx="7921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ЕСТ: није оштећена сем у тешкој форми делирантне ма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РИТИЧНОСТ: знатно редук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ВИД: у сопствено 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веома сни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Н, ВЕГЕТАТИВНИ СИСТЕМ, РУКОП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оред класичног облика постоје и друге форме ма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ХИПО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АНИЈА СА ПСИХОТИЧНИМ ЗНАЦИМА (сумануте идеде, халуцинације, салата од реч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АКИНЕТИЧНА МАНИЈА (без повишене активности) и НЕПРОДУКТИВНА МАНИЈА (без вербалне хиперпродуктивност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ЕЛИРАНТНА 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9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0920" y="1268280"/>
            <a:ext cx="83278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мплетна анамнеза и физикални нала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озга, повреде главе, с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пилепс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п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Лајмска болест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лтиплу склеро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неуросифилис, дисфун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штитасте 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сихијатријска анемнеза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HD, злоу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кох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нични поремећај ли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суманути поремећај, демен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оремећај исхране, панични поремећај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изофрен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оафективни пореме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одична 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валуција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9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Calibri"/>
              </a:rPr>
              <a:t>ЕВАЛУЦИЈА СИМПТО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Манична фа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оремећаји спа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нарочито ако има доста енергије, а мало сп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Стално траж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да нешто рад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пере кола сваки дан, брише прашину више пута дневно...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екомерно прича, а лако га прекине у говору периферни зву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Јача сексуална ж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 него инач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вулгарне шале, на тел. рачуну hot line br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ојачано трош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нов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Жали се да му мисли расту неконтролиса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ави нереалне планове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естаћу да радим и постаћу јелк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продајмо кућу и преселимо се у Мексик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Безразложна иритабилност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/или хостилност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бла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гардеробе јарких бо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дб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терапије, ако је до тада узима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12668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ЦИКЛОТИ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вај поремећај се некада називао циклотимни поремећај личности и спадао је у поремећаје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Блага хронична хиперактивност  и еуфорија и блага хронична депресија и хиперактивност 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сновна обележја овог поремећа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вантитативно посматрано никада нема елемената за праву маничну или депресивну епизоду (симптоми су код дистимије блажи, а ток је хронич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831672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курент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в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ј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elancholy"/>
          <p:cNvPicPr/>
          <p:nvPr/>
        </p:nvPicPr>
        <p:blipFill>
          <a:blip r:embed="rId1"/>
          <a:stretch/>
        </p:blipFill>
        <p:spPr>
          <a:xfrm>
            <a:off x="114300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477120" y="228600"/>
            <a:ext cx="24382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епресиј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интезиви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располож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правц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туг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мена је патоло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интезитету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трај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квалит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због околности  у којима се ја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000"/>
            </a:br>
            <a:br>
              <a:rPr sz="2000"/>
            </a:b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ИСТОРИЈСК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42640"/>
            <a:ext cx="5410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инич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описи депресивних ст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а: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окра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глинене плочице Вавилона, Аретеус из Кападок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 јасније перцепције депресивних поремећаја: Баиларгер и Фарлет средино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века у Француској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зд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свог 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џбеник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психијатрије 1896 године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мил Крепелин: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концепт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анично-депресивне психо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вије класификације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SM-IV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CD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10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пт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ниполарних 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ресија из круга биполарних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"/>
          <p:cNvPicPr/>
          <p:nvPr/>
        </p:nvPicPr>
        <p:blipFill>
          <a:blip r:embed="rId1"/>
          <a:stretch/>
        </p:blipFill>
        <p:spPr>
          <a:xfrm>
            <a:off x="5410080" y="1219320"/>
            <a:ext cx="3629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07800"/>
            <a:ext cx="851040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сифика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125000"/>
            <a:ext cx="88167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Главна основа за квантитатив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роуча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сваке поја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р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стварати, дефинисати и потврдити границе концеп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фикација депресије још од Емила Крепелина прате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дихтом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ендогено-реактивно; психотично-неуротично; примарно-секундарно; органско-психогено; униполарно-биполарн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ихтомија,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ниполарно-биполар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Leonhard, 1957) нашла је пуно оправ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у клиничкој пракси и постала основа св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авремених класификационих система (DSM IV, ICD-10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фикације DSM IV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ICD-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димензио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моде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итеријум класифико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четири димензије феноменологије: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интезитет, периодицитет, поларитет и трај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an0002"/>
          <p:cNvPicPr/>
          <p:nvPr/>
        </p:nvPicPr>
        <p:blipFill>
          <a:blip r:embed="rId1"/>
          <a:stretch/>
        </p:blipFill>
        <p:spPr>
          <a:xfrm>
            <a:off x="0" y="914400"/>
            <a:ext cx="45496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928800" y="0"/>
            <a:ext cx="50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ДИЈАГНОСТИЧКИ КРИТЕРИЈУМИ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ЗА ЕПИЗОДУ ВЕЛИКЕ ДЕПРЕС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716360" y="1000080"/>
            <a:ext cx="4213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времени класификациони - униформна и прецизнија дијагно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ло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за клинички и научно-истаживачки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ен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ка дескриптивној класификацији депресије, тзв. синдромолошки при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9992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честалост великог депресивног поремећаја (DSM IV критеријуми) у СА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од 3-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зик да ће исп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т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бар jедну епизоду велике депресије током свог живо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4-12% мушкараца i 20-26% ж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идемиолош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стражи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д униполарних депресија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жене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у односу на мушкарце об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в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ва пута 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топе инциденције и превен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знатно веће код особа старијег животног д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melancholy6"/>
          <p:cNvPicPr/>
          <p:nvPr/>
        </p:nvPicPr>
        <p:blipFill>
          <a:blip r:embed="rId1"/>
          <a:stretch/>
        </p:blipFill>
        <p:spPr>
          <a:xfrm>
            <a:off x="5638680" y="1676520"/>
            <a:ext cx="32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9:02:36Z</dcterms:created>
  <dc:creator>Mine</dc:creator>
  <dc:description/>
  <dc:language>en-US</dc:language>
  <cp:lastModifiedBy>Prof.Mihajlović</cp:lastModifiedBy>
  <dcterms:modified xsi:type="dcterms:W3CDTF">2018-09-09T17:36:20Z</dcterms:modified>
  <cp:revision>59</cp:revision>
  <dc:subject/>
  <dc:title>REKURENTNI DEPRESIVNI POREMEĆAJ</dc:title>
</cp:coreProperties>
</file>